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EBAAE-D656-4E6B-8322-29F3EC756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C628-C1B2-4DF9-B27C-7CF7681AB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5FCA-070E-4943-9840-D1911778C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EEDF-1026-4C1E-B917-1EA00C785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29814-FB6D-4245-9F59-38F2335DA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8136C-BFA4-499E-9A6F-8B674BA7D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9C1AD-55F2-4C88-9CAB-0869A81FD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C17A8-A3F8-46DF-9075-869476DA7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228E6-0F75-4F22-8490-0A86F5A43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8A782-9BF3-4DCB-9FA0-B53444EC0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56F62-8179-469C-AF3D-66E771BB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3137-0AE1-487D-8C29-221D99AC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D8BD1-BBCE-439D-A542-9BFF28C4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117FC-0EAC-4697-94D7-ABE1EE5B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238D7-F820-4651-88E3-8203392D7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53E2E-5130-4E4A-A937-2B84ACE8F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BF379-0C87-4D61-B19E-1BD3DD6AC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2F3B-D099-441A-BF52-C50A04CB8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5232-1F43-4A6E-8C02-6812191AF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9CBD-E7A0-41BF-9E41-8F04E276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D7B6-C065-4CC9-8352-4C08F9B2A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E1BB-C277-4352-901C-DBC4314A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40CE-42D2-4621-9C7F-6C8A9F4F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9155-9745-4399-A6B9-879F719D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F671D-2816-4606-8F83-4A6E6DF33B8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32C46-A73E-482B-849D-AA374C09C0D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MTS Research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ecute Sales and Marke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mpaigns analytically planned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 experienced Profession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turn your ideas into mon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dentifying Demand Leads to Revenue 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Marketing efforts track Activity not D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es 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 or Direct Mail Bla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de Sh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hrough A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in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unqualified indications of Interest with low correlations to sales wasting time or engaging low level contac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Garamond"/>
              </a:rPr>
              <a:t>Marketing Research Based Demand Generation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Qualified Sales Opportunities Are Defined B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ustomer Environmen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Operating Conditions and Facts that make using a Solution, Product or Service practical or imprac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Customer Sensitivity to Operating Proble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zed Business problems a customer will pay money to solve----that can be solved by the solution, service or product you o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33"/>
                </a:solidFill>
                <a:latin typeface="Garamond"/>
              </a:rPr>
              <a:t>IMTS Offers A Pay For Perfomance Model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49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d Qualification Tes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act must have an approved Tit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act must be at an approved Compan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act must understand the reason for the call and have received an offering brie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ll must Occu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te only Qualified calls are billab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Demand Based Lead Generation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ages Executive Management with a financially based value proposi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s Consequences for executive management team members that ignore your o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s Time &amp; Date with executive with proper level and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Follow-up E-mail confirmation letter to insure attendance and understanding of the call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inder calls to boost number of successful c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% recovery Rate on “No Show” c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etter Plan for a winning Sales Pipe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MTS offers a Complete Proces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TS provides a turnkey lead generation system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spect List Gene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urcing of executive conta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rketing Letter Desig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ircle of leverage” internal referr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ointment confirmation and remind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st appointment recove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MTS Performance based Fees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e Time Fe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itial Call List Development                 $5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ttack Letter Development                   $5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nthly Fe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ject Manager                                   $10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st Development                                  $5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ee Per accepted Sales Appointment  $3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8T14:59:24Z</dcterms:created>
  <dc:creator>Jay Jablonski</dc:creator>
  <dc:description/>
  <dc:language>en-US</dc:language>
  <cp:lastModifiedBy>Jay Jablonski</cp:lastModifiedBy>
  <dcterms:modified xsi:type="dcterms:W3CDTF">2011-09-26T17:26:46Z</dcterms:modified>
  <cp:revision>7</cp:revision>
  <dc:subject/>
  <dc:title>IMTS Research</dc:title>
</cp:coreProperties>
</file>